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793-0566-4991-A2E8-E5D13CAC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9F7-FF80-4A68-B4B4-29F2DF0F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8480-0B79-4D3A-97FF-E9907A2F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B1CA-0E7D-4269-BA14-ADAA37E4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AD79-B93E-46FD-8785-8FF568A7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2F33-3CE6-40CB-A3AE-C00F1D4E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0D2F-8B8F-465F-A83A-00EFD1C4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840-C11E-4E3E-BA0D-0382B3B4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26B0-EBDE-4EF3-9E45-31F16A98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1103-CBD7-4B6F-8043-CC965B50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B850-4A1E-475A-9559-6D428CB2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9015-083D-4B49-83E8-49F6BE56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3C56-B70A-44AA-82DF-29A43591A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7.png"/><Relationship Id="rId10" Type="http://schemas.openxmlformats.org/officeDocument/2006/relationships/image" Target="../media/image1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8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orilla" descr=""/>
          <p:cNvPicPr/>
          <p:nvPr/>
        </p:nvPicPr>
        <p:blipFill>
          <a:blip r:embed="rId1"/>
          <a:stretch/>
        </p:blipFill>
        <p:spPr>
          <a:xfrm>
            <a:off x="1447920" y="28195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42" name="pferd" descr=""/>
          <p:cNvPicPr/>
          <p:nvPr/>
        </p:nvPicPr>
        <p:blipFill>
          <a:blip r:embed="rId2"/>
          <a:stretch/>
        </p:blipFill>
        <p:spPr>
          <a:xfrm>
            <a:off x="4114800" y="148428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43" name="loewe" descr=""/>
          <p:cNvPicPr/>
          <p:nvPr/>
        </p:nvPicPr>
        <p:blipFill>
          <a:blip r:embed="rId3"/>
          <a:stretch/>
        </p:blipFill>
        <p:spPr>
          <a:xfrm>
            <a:off x="4114800" y="15228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44" name="beer" descr=""/>
          <p:cNvPicPr/>
          <p:nvPr/>
        </p:nvPicPr>
        <p:blipFill>
          <a:blip r:embed="rId4"/>
          <a:stretch/>
        </p:blipFill>
        <p:spPr>
          <a:xfrm>
            <a:off x="5446800" y="28195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45" name="zebra" descr=""/>
          <p:cNvPicPr/>
          <p:nvPr/>
        </p:nvPicPr>
        <p:blipFill>
          <a:blip r:embed="rId5"/>
          <a:stretch/>
        </p:blipFill>
        <p:spPr>
          <a:xfrm>
            <a:off x="4114800" y="28195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46" name="hund" descr=""/>
          <p:cNvPicPr/>
          <p:nvPr/>
        </p:nvPicPr>
        <p:blipFill>
          <a:blip r:embed="rId6"/>
          <a:stretch/>
        </p:blipFill>
        <p:spPr>
          <a:xfrm>
            <a:off x="6781680" y="281952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4114800" y="4151160"/>
          <a:ext cx="1258920" cy="125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41511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447920" y="4151160"/>
          <a:ext cx="1258920" cy="125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7920" y="41511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447920" y="5486400"/>
          <a:ext cx="1258920" cy="125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447920" y="54864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779560" y="2819520"/>
          <a:ext cx="1258920" cy="1258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79560" y="281952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oewe" descr=""/>
          <p:cNvPicPr/>
          <p:nvPr/>
        </p:nvPicPr>
        <p:blipFill>
          <a:blip r:embed="rId1"/>
          <a:stretch/>
        </p:blipFill>
        <p:spPr>
          <a:xfrm>
            <a:off x="4989600" y="3049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56" name="pferd" descr=""/>
          <p:cNvPicPr/>
          <p:nvPr/>
        </p:nvPicPr>
        <p:blipFill>
          <a:blip r:embed="rId2"/>
          <a:stretch/>
        </p:blipFill>
        <p:spPr>
          <a:xfrm>
            <a:off x="2322360" y="30492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4989600" y="1636560"/>
          <a:ext cx="1258920" cy="12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9600" y="16365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zebra" descr=""/>
          <p:cNvPicPr/>
          <p:nvPr/>
        </p:nvPicPr>
        <p:blipFill>
          <a:blip r:embed="rId5"/>
          <a:stretch/>
        </p:blipFill>
        <p:spPr>
          <a:xfrm>
            <a:off x="4989600" y="297180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60" name="beer" descr=""/>
          <p:cNvPicPr/>
          <p:nvPr/>
        </p:nvPicPr>
        <p:blipFill>
          <a:blip r:embed="rId6"/>
          <a:stretch/>
        </p:blipFill>
        <p:spPr>
          <a:xfrm>
            <a:off x="2322360" y="163656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61" name="hund" descr=""/>
          <p:cNvPicPr/>
          <p:nvPr/>
        </p:nvPicPr>
        <p:blipFill>
          <a:blip r:embed="rId7"/>
          <a:stretch/>
        </p:blipFill>
        <p:spPr>
          <a:xfrm>
            <a:off x="3657600" y="163656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990720" y="1636560"/>
          <a:ext cx="1258920" cy="1258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90720" y="163656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gorilla" descr=""/>
          <p:cNvPicPr/>
          <p:nvPr/>
        </p:nvPicPr>
        <p:blipFill>
          <a:blip r:embed="rId10"/>
          <a:stretch/>
        </p:blipFill>
        <p:spPr>
          <a:xfrm>
            <a:off x="2322360" y="2971800"/>
            <a:ext cx="1258920" cy="125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4989600" y="4303800"/>
          <a:ext cx="1258920" cy="125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89600" y="43038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6324480" y="2971800"/>
          <a:ext cx="1258920" cy="1258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24480" y="2971800"/>
                    <a:ext cx="125892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8:34:42Z</dcterms:created>
  <dc:creator>stavros skopeteas</dc:creator>
  <dc:description/>
  <dc:language>en-US</dc:language>
  <cp:lastModifiedBy>stavros skopeteas</cp:lastModifiedBy>
  <dcterms:modified xsi:type="dcterms:W3CDTF">2004-12-01T17:13:55Z</dcterms:modified>
  <cp:revision>7</cp:revision>
  <dc:subject/>
  <dc:title>PowerPoint-Präsentation</dc:title>
</cp:coreProperties>
</file>