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60F-8B98-4B4D-B837-6A2F343D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C00-A3A2-4AA1-A773-A3A2ACC6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552-5E6E-43B4-A5AF-DF775F01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85E-A46F-4E7C-A032-3098FBF9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842-C019-479F-ABA7-1B08491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BBC-8359-4974-9211-7E960A12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B5-2150-4C73-B0C9-09B81D1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44B-1997-4D19-BB1C-653392A5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017-2589-40B2-AD0D-3024250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B9A-904C-4D9F-AC55-8302186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CC4-2CCE-4020-BDB7-360A270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DA4-B3BE-4C55-AAEC-2765108C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178-E75A-40A3-8387-96F2933A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ferd" descr=""/>
          <p:cNvPicPr/>
          <p:nvPr/>
        </p:nvPicPr>
        <p:blipFill>
          <a:blip r:embed="rId1"/>
          <a:stretch/>
        </p:blipFill>
        <p:spPr>
          <a:xfrm>
            <a:off x="4114800" y="1484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2" name="beer" descr=""/>
          <p:cNvPicPr/>
          <p:nvPr/>
        </p:nvPicPr>
        <p:blipFill>
          <a:blip r:embed="rId2"/>
          <a:stretch/>
        </p:blipFill>
        <p:spPr>
          <a:xfrm>
            <a:off x="5446800" y="2819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3" name="hund" descr=""/>
          <p:cNvPicPr/>
          <p:nvPr/>
        </p:nvPicPr>
        <p:blipFill>
          <a:blip r:embed="rId3"/>
          <a:stretch/>
        </p:blipFill>
        <p:spPr>
          <a:xfrm>
            <a:off x="6781680" y="28195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1447920" y="4151160"/>
          <a:ext cx="125892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4151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779560" y="2819520"/>
          <a:ext cx="1258920" cy="12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956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114800" y="4151160"/>
          <a:ext cx="1258920" cy="12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4151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114800" y="2819520"/>
          <a:ext cx="1258920" cy="125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47920" y="2819520"/>
          <a:ext cx="1258920" cy="125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4792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4800" y="152280"/>
          <a:ext cx="1258920" cy="125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14800" y="15228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447920" y="5522760"/>
          <a:ext cx="1258920" cy="125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47920" y="55227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ferd" descr=""/>
          <p:cNvPicPr/>
          <p:nvPr/>
        </p:nvPicPr>
        <p:blipFill>
          <a:blip r:embed="rId1"/>
          <a:stretch/>
        </p:blipFill>
        <p:spPr>
          <a:xfrm>
            <a:off x="2322360" y="3049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989600" y="16365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8960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beer" descr=""/>
          <p:cNvPicPr/>
          <p:nvPr/>
        </p:nvPicPr>
        <p:blipFill>
          <a:blip r:embed="rId4"/>
          <a:stretch/>
        </p:blipFill>
        <p:spPr>
          <a:xfrm>
            <a:off x="2322360" y="1636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hund" descr=""/>
          <p:cNvPicPr/>
          <p:nvPr/>
        </p:nvPicPr>
        <p:blipFill>
          <a:blip r:embed="rId5"/>
          <a:stretch/>
        </p:blipFill>
        <p:spPr>
          <a:xfrm>
            <a:off x="3657600" y="163656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989600" y="4303800"/>
          <a:ext cx="1258920" cy="12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89600" y="4303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90720" y="1636560"/>
          <a:ext cx="1258920" cy="12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989600" y="2971800"/>
          <a:ext cx="1258920" cy="125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8960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322360" y="3008160"/>
          <a:ext cx="1258920" cy="125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22360" y="3008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989600" y="304920"/>
          <a:ext cx="1258920" cy="125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89600" y="3049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324480" y="2971800"/>
          <a:ext cx="1258920" cy="125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2448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4:42Z</dcterms:created>
  <dc:creator>stavros skopeteas</dc:creator>
  <dc:description/>
  <dc:language>en-US</dc:language>
  <cp:lastModifiedBy>stavros skopeteas</cp:lastModifiedBy>
  <dcterms:modified xsi:type="dcterms:W3CDTF">2004-12-02T21:41:07Z</dcterms:modified>
  <cp:revision>9</cp:revision>
  <dc:subject/>
  <dc:title>PowerPoint-Präsentation</dc:title>
</cp:coreProperties>
</file>