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4470-2CE5-4C9E-AEA0-48CA547B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D4CF-19ED-470E-A0F8-DF3CBF30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1EE4-01B5-47AA-9E92-7145C1AB2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C6CB-2F25-4041-8110-B6D52BA3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049F-112D-4563-9A1D-04CB856F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FA24-628D-4BE4-A76A-922170D1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F38C-82F3-4F04-ABFE-4B924EA7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21B0-7608-4670-ACB8-6A60EC96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967E-ABEF-4283-900B-B3223B0E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B192-599D-49CC-ACFD-7903AC87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A8A8-8A98-43B7-BCA5-EE3994A0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323F-1849-4DB3-BB0E-D26A05BF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8FAF-78CB-4C71-9493-63BABFFFC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8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9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0.png"/><Relationship Id="rId1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0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9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8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ferd" descr=""/>
          <p:cNvPicPr/>
          <p:nvPr/>
        </p:nvPicPr>
        <p:blipFill>
          <a:blip r:embed="rId1"/>
          <a:stretch/>
        </p:blipFill>
        <p:spPr>
          <a:xfrm>
            <a:off x="4114800" y="148428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42" name="hund" descr=""/>
          <p:cNvPicPr/>
          <p:nvPr/>
        </p:nvPicPr>
        <p:blipFill>
          <a:blip r:embed="rId2"/>
          <a:stretch/>
        </p:blipFill>
        <p:spPr>
          <a:xfrm>
            <a:off x="6781680" y="2819520"/>
            <a:ext cx="125892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1447920" y="5410080"/>
          <a:ext cx="1258920" cy="12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541008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2779560" y="2819520"/>
          <a:ext cx="1258920" cy="125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9560" y="281952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4114800" y="2819520"/>
          <a:ext cx="1258920" cy="1258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281952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4114800" y="112680"/>
          <a:ext cx="1258920" cy="1258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11268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446800" y="2819520"/>
          <a:ext cx="1258920" cy="125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46800" y="281952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447920" y="2819520"/>
          <a:ext cx="1258920" cy="1258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47920" y="281952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447920" y="4114800"/>
          <a:ext cx="1258920" cy="1258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47920" y="411480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114800" y="4191120"/>
          <a:ext cx="1258920" cy="1258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14800" y="419112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ferd" descr=""/>
          <p:cNvPicPr/>
          <p:nvPr/>
        </p:nvPicPr>
        <p:blipFill>
          <a:blip r:embed="rId1"/>
          <a:stretch/>
        </p:blipFill>
        <p:spPr>
          <a:xfrm>
            <a:off x="2322360" y="304920"/>
            <a:ext cx="125892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5029200" y="1636560"/>
          <a:ext cx="1258920" cy="125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9200" y="163656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hund" descr=""/>
          <p:cNvPicPr/>
          <p:nvPr/>
        </p:nvPicPr>
        <p:blipFill>
          <a:blip r:embed="rId4"/>
          <a:stretch/>
        </p:blipFill>
        <p:spPr>
          <a:xfrm>
            <a:off x="3693960" y="1636560"/>
            <a:ext cx="125892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6361200" y="2971800"/>
          <a:ext cx="1258920" cy="125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61200" y="297180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029200" y="304920"/>
          <a:ext cx="1258920" cy="1258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30492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5029200" y="2971800"/>
          <a:ext cx="1258920" cy="1258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297180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029200" y="4303800"/>
          <a:ext cx="1258920" cy="125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29200" y="430380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322360" y="2971800"/>
          <a:ext cx="1258920" cy="1258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22360" y="297180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990720" y="1636560"/>
          <a:ext cx="1258920" cy="1258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90720" y="163656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322360" y="1636560"/>
          <a:ext cx="1258920" cy="1258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322360" y="163656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8:34:42Z</dcterms:created>
  <dc:creator>stavros skopeteas</dc:creator>
  <dc:description/>
  <dc:language>en-US</dc:language>
  <cp:lastModifiedBy>stavros skopeteas</cp:lastModifiedBy>
  <dcterms:modified xsi:type="dcterms:W3CDTF">2004-12-02T21:32:04Z</dcterms:modified>
  <cp:revision>9</cp:revision>
  <dc:subject/>
  <dc:title>PowerPoint-Präsentation</dc:title>
</cp:coreProperties>
</file>